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BEB-A3C9-4183-B36C-98669AC8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C09-5ABA-4233-BEFF-E3FE541C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C7B-558F-43FC-AE78-95DA6EE7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BBF-99D0-4E59-B295-9E08CE40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5F8-A685-4E37-9997-C209884D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303-D534-4344-8B86-FB9123B9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CEF-23D9-4594-8629-5B0E13C9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398-6252-43ED-94C6-E1918977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47E-7F46-4AA6-9939-A9227B83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C4F-A7AE-4AF7-984D-D90BE8B5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15D-A997-4415-B3E5-442A00D0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7DC-CA3D-4C55-9557-F3F1F534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096C-D750-43F0-BA3E-BCE5911E4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rticles.economictimes.indiatimes.com/2012-03-06/news/31127176_1_mercedes-benz-india-mercedes-benz-mercedes-benz-plans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edes-Benz Investment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as Ha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rticles.economictimes.indiatimes.com/2012-03-06/news/31127176_1_mercedes-benz-india-mercedes-benz-mercedes-benz-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ctimes.com/news/local/temecula/temecula-mercedes-benz-dealership-back-on-frontburner/article_27d651bf-d082-5326-ab9a-19e978b9188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llafrica.com/stories/20101209092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files.coloribus.com/files/adsarchive/part_677/6771555/file/mercedes-benz-classic-cars-investment-small-17346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benzinsider.com/wp-content/uploads/2010/12/MB_Chakanplant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3360" y="604800"/>
            <a:ext cx="847728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in In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 car manufacturer Mercedes-Benz plans to launch three to five compact premium cars in India by 201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so plans to invest Rs 350 crore till 2014 in its facility at Chakan, Ind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for a new paint shop and two assembly lines for B- and A-class cars, and ML and GL SUV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India is an important growth market for us, where we see potential,” says Dieter Zetcs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tsche told ET that the company will expand its dealer network and ramp up production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stment chart on Mercedes Ben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49600" y="1447920"/>
            <a:ext cx="4056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in Califor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vestment group that has talked for years about building a Mercedes-Benz dealership in Temecula will do the plans that were thought up of in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ecula Mayor Chuck Washington said that the production of the site could begin in late summer or early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alership is planned to open sometime in the summer or fall of 2013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hington said the project was shelved because of the economy and that it's encouraging to see it being rev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It's indicative they have confidence that things are getting better,” says Washington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edes Pl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edes Benz plans to invest a further R2 billion in South Africa to build the next C-Class at its East London pl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vestment will reportedly increase the East London plant's capacity from 50 000 to 65 000 units per ann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edes Benz South Africa said the investment was expected to provide for extensive skills development and training locally and in Germ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vestment will provide the new plant equipment and the introduction of some of the very latest manufacturing techn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bring more than a dozen new technologies to South Africa in the car and production processes as well as localize more than 40 percent of the components for the new veh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in South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3342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When were the plans thought up of for the California pro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he investment in South Africa will raise production to what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Because of the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6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3:50:11Z</dcterms:created>
  <dc:creator>SCSadmin</dc:creator>
  <dc:description/>
  <dc:language>en-US</dc:language>
  <cp:lastModifiedBy>SCSadmin</cp:lastModifiedBy>
  <dcterms:modified xsi:type="dcterms:W3CDTF">2012-04-02T14:05:15Z</dcterms:modified>
  <cp:revision>14</cp:revision>
  <dc:subject/>
  <dc:title>Mercedes-Benz Investments around the world</dc:title>
</cp:coreProperties>
</file>